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FF7-651C-4134-A382-ED4D2BBE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9E0-EE64-4EC7-9817-0082C56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4ED-9D8D-43B0-9B3A-4B5CEA01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475-C238-442A-AE32-48D125B0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631-F41C-42A1-AB05-DD5C70A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89E-1737-4B0B-86CA-A2EE2B4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F08-01F2-4A0A-A4FE-BDD0D0B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CE9-2EA7-449D-A510-100E526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4E3-36C5-466C-99A8-3542BD6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963-CB47-45F8-8B61-AB87434A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30D-1102-4B79-A255-C8EEB29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4E-6881-4B79-AD00-5813412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894A-4249-474E-B858-C59EB7E1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REALY BUGS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6480" y="14842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419112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6720" y="34210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75248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N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R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ip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295280"/>
            <a:ext cx="121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48006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4952880"/>
            <a:ext cx="19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hony.phan</cp:lastModifiedBy>
  <dcterms:modified xsi:type="dcterms:W3CDTF">2009-03-24T02:40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